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75D-5C40-4C34-86B4-BAF5CA67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FB7-AF51-444F-81BA-82AD92E5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7B3-E137-44E1-8FBF-C1CD069F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D56-BED0-494A-99E3-277A8FA3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92F39-E03D-43ED-8543-B7D8224E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6C542-4BB2-4617-9AFE-D8272EB4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75891-B7BB-4375-9CEE-99B9284A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DFDE3-6D91-4D7D-A30D-A4D11A11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9CAFA-DC23-4256-A2D3-7B736055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4A421-9D77-4D42-AE32-9A6BB420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28D69-E11F-4FA6-9F51-3902739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8A3-1F3F-460D-8CA4-C5B296C4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DD109-C7CB-4FEB-B0F8-4CF2662C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69A8C-D33D-4E14-9D5A-AB51D73E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4AFB2-29FD-4343-B378-3705CE8D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D0B2C-F8EB-4E99-A7E4-C809470C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1304C-9672-4346-B3A7-FAA999A3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ECE-F250-4A99-BB43-FAF27873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124-3D16-483B-A316-63D5DC6B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E5D-A2D3-4D3E-85F2-0D773255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F99-0D64-4C06-B774-18044882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E81-4DF3-46FB-BD8F-DF6CFEA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62C-05BE-406F-99F0-7DE43F18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026-D003-435A-BF1E-B5BE0315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1B09-4379-4C8B-A56E-A3A88A7262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120C-5105-4FBA-867A-53853E282E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n593tLPiUAqN.jzbkF/SIG=128kj5mna/EXP=1266502009/**http%3A//www.blisstree.com/files/2009/04/mushroom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5x.HtLRBsA.lCjzbkF/SIG=12jrsbbp8/EXP=1266502129/**http%3A//www.aces.edu/dept/extcomm/newspaper/graphics/no-ti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Mo_HtLZz4ArvajzbkF/SIG=13jn1iel3/EXP=1266503080/**http%3A//www.houffs.com/Portals/57ad7180-c5e7-49f5-b282-c6475cdb7ee7/Services/services-nutman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rds.yahoo.com/_ylt=A0WTefdk_ntLAGsAq4ujzbkF/SIG=12citao2b/EXP=1266503652/**http%3A//env1.kangwon.ac.kr/chemmod/images/groundwater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HSn1LiGYAFJ.jzbkF/SIG=128jbbpep/EXP=1266588679/**http%3A//www.flickr.com/photos/97858341@N00/416705030/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514600" y="914400"/>
            <a:ext cx="441972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gricultur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371600" y="439272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 Matthew Pomich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 B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133720" y="2649600"/>
            <a:ext cx="51814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2286000" y="1143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143000" y="1981080"/>
            <a:ext cx="70866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.wikipedia.org/wiki/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news.osu.edu/archive/notill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.wikipedia.org/wiki/No-till_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griculture.state.pa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gclassroom.org/kids/stats/pennsylvania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Agriculture 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ion of food and goods through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cal improvements such as plant breeding, pesticides and fertilizers, and have sharply increased yields from cul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at the same time have caused widespread ecological damage and negative human health effec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riculture in P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nsylvania ranks first nationally in producing mushrooms with annual production of 443 billion l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wheat is an important crop in the southeast whereas Buckwheat is a major crop in the northeast. Other important crops include potatoes, oats, rye, barley, and a variety of truck cr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nsylvania also grows apples, cherries, peaches, and gr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981080"/>
            <a:ext cx="3635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 Till Farm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-till farming (sometimes called zero tillage) is a way of growing crops from year to year without disturbing the soil through til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s planting crops without plowing the soi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problems involve residue management and increased weed and disease infes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help slow global climate change by trapping carbon in soil rather than releasing its byproduct, carbon dioxide, into the ai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41148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aditional Farm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t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preparation of the soil by plowing, ripping, or turning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ifferent types of tillage - Intensive, reduced , con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 of tillage are erosion, substantial organic matter lost, and it is time cos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276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utrient Manag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rocess used by farmers to manage the amount of fertilizer and time it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ould manure or commercial ferti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is to maximize crops while minimizing source pollution, contamination of groundwater, &amp; improve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pollution - runoff of pollutants to surface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905120"/>
            <a:ext cx="2361960" cy="19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419720"/>
            <a:ext cx="23810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blems with Fertilizer Run-of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itrogen-rich compounds found in fertilizer run-off is the primary cause of serious oxygen depletion in many parts of the oce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s billions of tons of topsoil into waterways each year, causing loss of valuable topsoil and adding sediment to produce turbidity in surface wa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505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thane Cap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520" y="14479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s an industrial waste product into a new source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c matter is collected in an enclosed tank called a diges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controlling temperature and air flow, anaerobic bacteria will decompose the organic matter, producing meth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ethane can be collected and siphoned to storage tanks or a generator for production of on-site energy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22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View Image"/>
          <p:cNvPicPr/>
          <p:nvPr/>
        </p:nvPicPr>
        <p:blipFill>
          <a:blip r:embed="rId3"/>
          <a:stretch/>
        </p:blipFill>
        <p:spPr>
          <a:xfrm>
            <a:off x="4648320" y="3962520"/>
            <a:ext cx="403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854360" y="8701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981080" y="25146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tube.com/watch?v=O1tdG6ec0h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tube.com/watch?v=wLDk6-B1ZP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06:00Z</dcterms:created>
  <dc:creator>SASD</dc:creator>
  <dc:description/>
  <dc:language>en-US</dc:language>
  <cp:lastModifiedBy>sasd</cp:lastModifiedBy>
  <dcterms:modified xsi:type="dcterms:W3CDTF">2010-03-10T15:41:42Z</dcterms:modified>
  <cp:revision>10</cp:revision>
  <dc:subject/>
  <dc:title>Slide 1</dc:title>
</cp:coreProperties>
</file>